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FE0B-DBDA-4833-97D5-45F9F9FB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E11B-7F29-4491-B762-66CDE864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390C-B8FA-47F2-A479-F5EDE698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71E8-58C4-4CC9-B1FC-35F6734A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BF48-1717-4F92-8EEC-B090C923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D2ED-87FB-4DFE-9F5E-68423421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D049-82A4-4825-9B9B-F833C8A9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F8E4-F446-46C8-90BC-AD374CD6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402B-EFD7-4A97-9BBF-B7BDB16B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98F9-9D02-40E2-873D-59D0D639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6113-5681-4D13-85AA-94FE3053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F4D7-4094-4C79-B31C-B6300C0B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F9E1-A638-4F00-A2F6-CC336E3C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F08D-3652-4B24-A245-D4367607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9A76-65BB-4A5B-A701-D7C6783E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62C3-2A9F-490A-9A2B-7AF3270D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B6AB-B66F-41A0-A2A4-0B8A2079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FA0-113D-4B42-8319-5BCBBCAB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88F1-2221-41A0-8A05-9989C0C3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5026-0AAE-491B-9CD2-0630E066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5B0E-0FD9-47EA-8F80-98911B82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6EFD-F533-41CB-8B9F-64A06E58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B40A-A689-4717-9B3B-5AC28493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AEA4-AA37-4095-BE61-A84517E8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5EBB-5390-4CD0-B0B1-6D27AACF782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CB13-76E0-41A8-B662-FEFF56ECC13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2005 food crisis in Malawi 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Innovative respons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esented b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ominique Blariau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lawi EU Deleg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Unconditional Cash transfers Concern Worldwide experienc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humanitarian response to a food shortage in Dowa district caused by poor rains, based on MVAC re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Objectiv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Improve access to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better understand, demonstrate and document the market response to cash transfers in rural area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evelop and refine cash delivery moda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Unconditional Cash transfers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W experienc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How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provide 10,000 HH  access their MF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Money given to wome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Adjusting the cash by households siz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Adjusting the cash monthly according to maize pr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elivering using smart cards and mobile bank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Why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 understand what it takes to bring banking to the rural are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 understand low-income individuals interaction with technology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 create a system that is secure, transparent, flexible, scalable and developmentally positiv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Unconditional Cash transfers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W experienc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o link Gov’t, NGO, donor and private sector as partners in developmen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o move decision making power to the poo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o give beneficiaries ownership and self estee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Resul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- Cash mainly use to purchase food, school fees, HH assets, fertiliser, repay deb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- decrease of borrowing amongst the receiv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Power of Smart Card Technolog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75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Biometric ID with Malswitch Search Engine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75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Card contains 25 wallets and can be used on closed group system tracking unit or currency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75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Off-line devices allow for remote access of value and control of transactions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75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Using existing private sector channels for input distribution and access (over 800 devices deployed in Malawi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75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Central electronic loading of value and payment to suppliers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75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Full Financial Accountability and Data Reconciliatio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005 food crisis in Malaw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ext: chronic Poverty/Vulnerab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Consecutive food crisis (1999,2001,2002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High HIV/AIDS prevalen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85% population dependent on agricul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declining soil fert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high climatic vari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weak gover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ul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Only 3 week dry spells at critical moment for growth dvlpt and 4,9 million Malawian (44% pop) at risk of missing food entitlemen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National cereal deficit: 400 000 M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2005 food crisis: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innovative respon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lternative option for food distribution :  Government Distribution Sche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overnment Call option for 60 000 M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nconditional/conditional Cash transfers (free cash distribution with the use of ‘smart card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lternative option for food distribution : WFP vs Gvt Scheme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y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od security is chronic in Malawi, FI recurrent, Gvt’s leadership/ownership for responding to food crisis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eed to build capacity of Gv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FP monopoly thus distribution cost exorbitant (250US$/MT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epartment of Poverty and disaster Management’s responsibilit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ogistic unit financed by DFID to support the Departme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lternative option for food distribution : WFP vs Gvt Schem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U signed with NGOs to ensure distribution (same as WF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act signed by Gvt (DFID funds) with WFP to train NGOs on monitoring/evaluation to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ment distribution scheme set up in parallel to WFP sche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 Malawi divided : Gvt scheme to distribute in part of center and North-WFP to distribute in part of center and S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lternative option for food distribution : WFP vs Gvt Scheme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FP transport cost reduced from 250US$ to 115 US$ (ar. 100$ for Gvt Scheme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oth distribution went wel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ayment to NGO done by Gvt (National budget, targeted  BS (Norway/DFID)) without major delays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apacity of Gvt to manage food crisis increase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halleng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petition for tranport/Competition for maize: contribution by stakehlders mainly channeled through WFP/free food distribu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arket based option contract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 60 000 MT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od gap of 400 000 M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volatility in price of staple food, especially maiz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ensure availability of food at acceptable pr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 of importing in crisis (high price, import too much, too little, unclear signals (public, private sector, logisti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awi secured additional supplies of Maize at capped price from South Africa Futures Exchange (SAFEX) to hedge against price volat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arket based option contract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 60 000 MT How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vt signed contract with Standard Bank of South Afric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ayment of premium (DFID)(technical support WB) for right no obligation to buy up to 60 000 maize – including transport-at a price fixed at the time of the contract and within a set period of tim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rovided Gvt with mechanism to trigger additional imports at short notice with protection against risk of increase of pric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arket based option contract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 60 000 M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response to continued shortage of maize: Gvt exercised first tranche in October for 30 000 MT, second tranche in November 30000 MT. 40 000 MT for humanitarian distribu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ember maize price: $50 to $90 above ceiling p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9:56:59Z</dcterms:created>
  <dc:creator>visitor</dc:creator>
  <dc:description/>
  <dc:language>en-US</dc:language>
  <cp:lastModifiedBy>visitor</cp:lastModifiedBy>
  <dcterms:modified xsi:type="dcterms:W3CDTF">2007-03-13T09:30:01Z</dcterms:modified>
  <cp:revision>8</cp:revision>
  <dc:subject/>
  <dc:title> 2005 food crisis in Malawi  </dc:title>
</cp:coreProperties>
</file>